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176-0C55-4AC9-9F0B-DB3BDFE4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636-1068-43A4-9684-460AA073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BE0-94C1-4725-9ED9-7DDDF2E2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7AB-C125-44AA-9E45-1890173B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726-29F4-4E72-9F4A-82AF494D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25F-EAE0-413C-9D85-29E48E42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FA6-FD38-4B91-875B-2EFFCB1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479-B89D-4161-8C1D-A7DB3D3B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5FB-584D-46C4-ACA0-F32FF984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31B-385E-4AA4-AEB5-6A72323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3CD-F3CF-4FEC-BE7F-7E0079A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FC2-6FFC-4126-B304-0EAD728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55A2-CE48-4DF4-8306-F51CCEF1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533520"/>
            <a:ext cx="6553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Mi cuarto Ide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3505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Elena W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2286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1905120"/>
            <a:ext cx="137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143000"/>
            <a:ext cx="6098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1752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os cuad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5909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286000"/>
            <a:ext cx="1523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El escri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629400" y="6019560"/>
            <a:ext cx="9907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6095880"/>
            <a:ext cx="12189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s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914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1066680"/>
            <a:ext cx="1828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vent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447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5228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s Cort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28600"/>
            <a:ext cx="7621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238880" y="396252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181480"/>
            <a:ext cx="137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Discos Compa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752120" y="533412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533520"/>
            <a:ext cx="1295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El Rel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53280" y="1143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327672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2971800"/>
            <a:ext cx="137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me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5334120"/>
            <a:ext cx="1600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alfom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4343400"/>
            <a:ext cx="9903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comput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77320" y="2361960"/>
            <a:ext cx="228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2743200"/>
            <a:ext cx="137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El es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68580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05320" y="1752480"/>
            <a:ext cx="3047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r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4952880"/>
            <a:ext cx="7010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tching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Filename: j0433160.jpg&#13;Keywords: emoticons, emotions, expressions ...&#13;File Size: 441 KB&#13;Provided by: iStockphoto.com"/>
          <p:cNvPicPr/>
          <p:nvPr/>
        </p:nvPicPr>
        <p:blipFill>
          <a:blip r:embed="rId1"/>
          <a:stretch/>
        </p:blipFill>
        <p:spPr>
          <a:xfrm>
            <a:off x="6705720" y="838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1:05Z</dcterms:created>
  <dc:creator>eweed09</dc:creator>
  <dc:description/>
  <dc:language>en-US</dc:language>
  <cp:lastModifiedBy>Readington Township Board of Education</cp:lastModifiedBy>
  <dcterms:modified xsi:type="dcterms:W3CDTF">2009-05-12T16:32:05Z</dcterms:modified>
  <cp:revision>8</cp:revision>
  <dc:subject/>
  <dc:title>Slide 1</dc:title>
</cp:coreProperties>
</file>